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784E-F847-425F-9811-DFCF98B6B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4400-93D9-41D6-9175-212BC73FF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eneed.nlm.nih.gov/images/dna_replication_s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6C71-E318-4F34-8152-FE334BC85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8EB0-2398-4C39-B780-F64D5A28B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E8FC-8FF7-4C26-B2A1-24DE30869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A8A7-12A0-46CC-9900-B57615367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2DDF-24E1-4DB2-AC7F-BB3FBDADB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8D62-B6D1-414F-8C21-03327D201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0A99-55EB-4A94-84C2-81ECF6251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5FD7-03AD-4088-9D14-0C67B3D8E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5B26-5700-4340-9676-6CFF9E325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animation: http://www.wiley.com/legacy/college/boyer/0470003790/animations/animation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D604-9044-430B-A1B2-903D83039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website: http://www.biology.arizona.edu/molecular_bio/problem_sets/nucleic_acids/nucleic_acids_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20BD-099D-414D-B892-C5B5216AD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4CCE-4C33-471F-8DFD-793479E4F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website: http://www.johnkyrk.com/DNAreplic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6C21-2540-4F64-88AD-E77F9B45E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accessexcellence.org/RC/VL/GG/possible.php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08FE-0803-4994-897C-0B8513701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288D-6DF4-4816-B184-027722F58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B4DB-DD84-4374-97E4-154F9DDBD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 page: http://highered.mheducation.com/sites/0072437316/student_view0/chapter14/anim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 old Powerpoint</a:t>
            </a:r>
            <a:r>
              <a:rPr b="0" lang="is-IS" sz="1200" spc="-1" strike="noStrike">
                <a:solidFill>
                  <a:srgbClr val="000000"/>
                </a:solidFill>
                <a:latin typeface="Arial"/>
              </a:rPr>
              <a:t>…source is not cred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94C6-B673-4C48-8281-2E41F4E80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animation: http://highered.mheducation.com/sites/0072437316/student_view0/chapter14/anim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CA10-D3AC-4D6C-955D-1A2CD3ED1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users.rcn.com/jkimball.ma.ultranet/BiologyPages/D/DNAReplication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30D9-28AE-4A59-9382-FA3CFAE9E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haronchoi-sbi4u.blogspot.com/2010/09/dna-replication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789-30D7-43FF-8ED6-48409496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E79-C70B-433A-BB18-AF49FAAB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44F-9D4A-4F51-8572-E028A30F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20B-AC66-4171-8755-97307F8E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875-C718-408A-93CD-F1F6BC26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5D1-F374-412E-8776-763B3801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022-FFBD-440B-AAC9-3F9F9FC4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165-E7EB-4ECA-ABE6-FB55D71C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F26-65A5-422D-A666-45CC49DD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D07-C4E2-40E5-8242-D0443272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E1C-6B95-4660-A554-AC362679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C3FE-70E9-4A3E-974F-D3F056BA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6FE2-1B21-4EB8-BC4B-E3BF69AB7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helic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eaks H-bonds between complementary base pairs, unwinding the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-stranded binding proteins (SSB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nd to the unwound single strands of DNA to prevent the H-bonds from ref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oisomer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ieve tension caused by the unwinding of the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ut both strands and allow them to swivel around each other, then resea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hesizes an RNA primer of 10-60 base pairs to the template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s complementary nucleoside triphosphates in the 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rection to the RNA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800px-DATP_chemical_structure"/>
          <p:cNvPicPr/>
          <p:nvPr/>
        </p:nvPicPr>
        <p:blipFill>
          <a:blip r:embed="rId1"/>
          <a:stretch/>
        </p:blipFill>
        <p:spPr>
          <a:xfrm>
            <a:off x="5867280" y="5181480"/>
            <a:ext cx="22100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uilt continuous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replication f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gg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uil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plication fork, and is built in short segment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zaki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moves RNA primers (from both the leading and lagging strands) and replaces them with deoxyribo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lig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Okazaki fragments into one strand, through creation of phosphodiester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eck new strands of DNA for errors as they are synthes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onucl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xcising incorrect nucleotides and adding the correct nucleotides to the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Prokaryotic &amp; 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usually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 replication 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rokaryotic DNA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than one replication 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Prokaryotic &amp; 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karyotic cell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NA polymerase I, II, and 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n replication and repair;  in eukaryotic cells, the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than 3 different types of DN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teractive animation with questions is a good self-study tool.  Click on “DNA Replica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ology Project” is a fantastic site hosted by the University of Arizona.  At this part of the site there are multiple-choice problem sets.  Try the problem sets on Meselson-Stahl and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replication is essential for mitotic &amp; meiotic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NA replic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-conserv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(con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m not a huge fan of this site, but it’s interesting to see the molecular structures of the DNA &amp; enzymes during the animation of DNA replic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-conserv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ossible"/>
          <p:cNvPicPr/>
          <p:nvPr/>
        </p:nvPicPr>
        <p:blipFill>
          <a:blip r:embed="rId1"/>
          <a:stretch/>
        </p:blipFill>
        <p:spPr>
          <a:xfrm>
            <a:off x="2373480" y="1981080"/>
            <a:ext cx="439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(195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teria in medium containing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(heavy isotope of nitrogen) for 17 generations, ensuring that bacterial DNA was labelled with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labelled bacteria into a medium containing only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and allowed it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centrifuged samples of th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labelled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Experi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“Meselson and Stahl Experiment” animatio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Meselson &amp; Stahl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the results have been if DNA replication was conservative?  dispers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estahlexp"/>
          <p:cNvPicPr/>
          <p:nvPr/>
        </p:nvPicPr>
        <p:blipFill>
          <a:blip r:embed="rId1"/>
          <a:stretch/>
        </p:blipFill>
        <p:spPr>
          <a:xfrm>
            <a:off x="2209680" y="2743200"/>
            <a:ext cx="4483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 Enzym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 “How nucleotides are added in DNA replication”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43000" y="2438280"/>
          <a:ext cx="6858000" cy="30481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heli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isomer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polymerase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polymerase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lig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ReplicationFork"/>
          <p:cNvPicPr/>
          <p:nvPr/>
        </p:nvPicPr>
        <p:blipFill>
          <a:blip r:embed="rId1"/>
          <a:stretch/>
        </p:blipFill>
        <p:spPr>
          <a:xfrm>
            <a:off x="2550960" y="1981080"/>
            <a:ext cx="404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DNA replication"/>
          <p:cNvPicPr/>
          <p:nvPr/>
        </p:nvPicPr>
        <p:blipFill>
          <a:blip r:embed="rId1"/>
          <a:stretch/>
        </p:blipFill>
        <p:spPr>
          <a:xfrm>
            <a:off x="690480" y="1981080"/>
            <a:ext cx="776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2:41:59Z</dcterms:created>
  <dc:creator>rubina khan</dc:creator>
  <dc:description/>
  <dc:language>en-US</dc:language>
  <cp:lastModifiedBy>rubina khan</cp:lastModifiedBy>
  <dcterms:modified xsi:type="dcterms:W3CDTF">2017-03-21T02:30:35Z</dcterms:modified>
  <cp:revision>137</cp:revision>
  <dc:subject/>
  <dc:title>Molecular Genetics</dc:title>
</cp:coreProperties>
</file>